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4F4E7-5468-493A-860F-1170949A2D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90A0-3206-42F1-B7B8-D9FECBD1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2938-944F-4659-9604-9ECADF1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AD92B-2B37-4F94-A3AE-5A753FF7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101B-DE11-4265-A56D-8421A3E1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A9A19-D7EB-4256-862E-051ECF31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45521-A18C-4D42-86B4-7786372D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CE40-D912-4206-88E0-530C232A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03CC-0FA7-4183-AABE-0D4E8432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F8D3-65B1-42A2-834C-146117A3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222C-3240-45AF-83C7-E2868B46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8725D-EAC2-409B-8879-E34D1513A9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3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sp>
          <p:nvSpPr>
            <p:cNvPr id="6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grpSp>
        <p:nvGrpSpPr>
          <p:cNvPr id="7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8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9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12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  <p:sp>
            <p:nvSpPr>
              <p:cNvPr id="13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宋体"/>
                </a:endParaRPr>
              </a:p>
            </p:txBody>
          </p:sp>
        </p:grpSp>
      </p:grpSp>
      <p:grpSp>
        <p:nvGrpSpPr>
          <p:cNvPr id="14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5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7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  <p:sp>
          <p:nvSpPr>
            <p:cNvPr id="19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宋体"/>
              </a:endParaRPr>
            </a:p>
          </p:txBody>
        </p:sp>
      </p:grpSp>
      <p:pic>
        <p:nvPicPr>
          <p:cNvPr id="20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21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1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DBB2-02B7-4DE0-93E2-67CC93ED7A7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7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抗寄生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371600" y="762120"/>
            <a:ext cx="6324480" cy="1523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1600200" y="3505320"/>
            <a:ext cx="640080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9236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3399"/>
              </a:solidFill>
              <a:latin typeface="楷体_GB2312"/>
              <a:ea typeface="楷体_GB2312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55640" y="1413000"/>
            <a:ext cx="770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用良性疟继发性红外期和配子体， 根治间日疟和控制传播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492360" y="33336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伯 氨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611280" y="278136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毒性比其他抗疟药大，用药应注意，服药宜在餐时或饭后，以减少消化道反应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可发生溶血或高铁血红蛋白血症，用药时应注意观察尿色，一旦有改变需立即报告医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有溶血或贫血现象应立即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buClr>
                <a:srgbClr val="99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、肾、血液系统疾患和糖尿病者禁用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3203640" y="333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乙胺嘧啶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539640" y="134136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因预防作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抑制各型疟原虫红细胞外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较好的病因性预防的首选药。每周服药一次即可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468360" y="3573360"/>
            <a:ext cx="82296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和药疗监护须知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长期大剂量用药可引起巨幼细胞性贫血和白细胞减少，应定期查血象，发现问题及早停药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此药略带甜味，严防儿童误服中毒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二节 抗阿米巴病药和抗滴虫病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一 抗阿米巴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、外阿米巴药：如甲硝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内阿米巴药：如二氯尼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抗肠外阿米巴药：如氯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45-14"/>
          <p:cNvPicPr/>
          <p:nvPr/>
        </p:nvPicPr>
        <p:blipFill>
          <a:blip r:embed="rId1"/>
          <a:stretch/>
        </p:blipFill>
        <p:spPr>
          <a:xfrm>
            <a:off x="2050920" y="115920"/>
            <a:ext cx="533412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甲  硝  唑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(metronidazol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药理作用与临床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阿米巴作用    肠内、肠外阿米巴病首选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厌氧菌作用    防治腹腔、盆腔术后混合感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阴道滴虫病    作用滴虫滋养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贾第鞭毛虫作用    最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39640" y="51577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 粒细胞减少、抑制酒精代谢、致畸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二氯尼特</a:t>
            </a:r>
            <a:r>
              <a:rPr b="1" lang="en-GB" sz="3200" spc="-1" strike="noStrike">
                <a:solidFill>
                  <a:srgbClr val="ffffff"/>
                </a:solidFill>
                <a:latin typeface="宋体"/>
                <a:ea typeface="宋体"/>
              </a:rPr>
              <a:t>(diloxanid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目前最有效的杀灭阿米巴包囊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无症状或症状轻微的排包囊者有良好疗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慢性阿米巴痢疾也有效，但对肠外阿米巴病无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良反应轻微，多见的有胃肠胀气，偶见皮疹、呕吐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抗滴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硝唑为治疗滴虫病的首选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酰胂胺为五价胂化合物，用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锰酸钾溶液冲洗阴道后，乙酰胂胺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GB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片，放置阴道穹窿部，可直接杀灭滴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宋体"/>
                <a:ea typeface="宋体"/>
              </a:rPr>
              <a:t>第三节 抗血吸虫病药和抗丝虫病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抗血吸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抗血吸虫病药的发展史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石酸锑钾 → 呋喃丙胺、硝硫氰铵 → 吡喹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滴虫病药甲硝唑的作用及应用；常用驱肠虫药的临床应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疟药的分类及常用药物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抗血吸虫病药、抗丝虫病药和抗阿米巴病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3276720" y="260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吡 喹 酮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7" name="Text Box 9"/>
          <p:cNvSpPr/>
          <p:nvPr/>
        </p:nvSpPr>
        <p:spPr>
          <a:xfrm>
            <a:off x="304920" y="1447920"/>
            <a:ext cx="861048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用与用途</a:t>
            </a:r>
            <a:r>
              <a:rPr b="1" lang="en-US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血吸虫和广谱驱肠蠕虫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疗程短，不良反应轻，远期疗效好，毒性低，可口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治疗血吸虫病的首选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755640" y="1484280"/>
            <a:ext cx="76201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生活史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我国主要为班氏丝虫和马来丝虫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826920" y="342900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丝虫病的特点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淋巴管及淋巴结炎、结缔组织慢性增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990720" y="5029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常用药物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胺嗪、依维菌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抗丝虫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1523880" y="1752480"/>
            <a:ext cx="67057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600200" y="2438280"/>
            <a:ext cx="5943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914400" y="990720"/>
            <a:ext cx="1676520" cy="6094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97" name="Picture 5" descr="45-4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51055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7"/>
          <p:cNvSpPr/>
          <p:nvPr/>
        </p:nvSpPr>
        <p:spPr>
          <a:xfrm>
            <a:off x="3124080" y="59436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丝虫生活史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45-3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3"/>
          <p:cNvGraphicFramePr/>
          <p:nvPr/>
        </p:nvGraphicFramePr>
        <p:xfrm>
          <a:off x="4191120" y="457200"/>
          <a:ext cx="2743200" cy="347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457200"/>
                    <a:ext cx="27432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4"/>
          <p:cNvGraphicFramePr/>
          <p:nvPr/>
        </p:nvGraphicFramePr>
        <p:xfrm>
          <a:off x="6324480" y="3657600"/>
          <a:ext cx="2667240" cy="303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24480" y="3657600"/>
                    <a:ext cx="266724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162920" y="175248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下肢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191120" y="5029200"/>
            <a:ext cx="1752480" cy="4597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阴囊象皮肿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3492360" y="40464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乙 胺 嗪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04920" y="1447920"/>
            <a:ext cx="861048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  <a:ea typeface="楷体_GB2312"/>
              </a:rPr>
              <a:t>作用特点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治疗丝虫病的首选药，能防止其传播，预防或减轻症状。由于本药对成虫的作用弱，必须长疗程治疗，才能彻底杀灭成虫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50920" y="3789360"/>
            <a:ext cx="8610480" cy="17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不良反应：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引起的胃肠反应：恶心呕吐、食欲缺乏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虫体引起的过敏反应：畏寒、发热、皮疹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55640" y="1700280"/>
            <a:ext cx="78487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肠蠕虫的种类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绦虫、钩虫、蛔虫、蛲虫、鞭虫、姜片虫等。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第四节 驱肠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14" name="Picture 2" descr="45-5"/>
          <p:cNvPicPr/>
          <p:nvPr/>
        </p:nvPicPr>
        <p:blipFill>
          <a:blip r:embed="rId1"/>
          <a:stretch/>
        </p:blipFill>
        <p:spPr>
          <a:xfrm>
            <a:off x="3808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45-6"/>
          <p:cNvPicPr/>
          <p:nvPr/>
        </p:nvPicPr>
        <p:blipFill>
          <a:blip r:embed="rId2"/>
          <a:stretch/>
        </p:blipFill>
        <p:spPr>
          <a:xfrm>
            <a:off x="4800600" y="1219320"/>
            <a:ext cx="1200240" cy="1904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45-7"/>
          <p:cNvPicPr/>
          <p:nvPr/>
        </p:nvPicPr>
        <p:blipFill>
          <a:blip r:embed="rId3"/>
          <a:stretch/>
        </p:blipFill>
        <p:spPr>
          <a:xfrm>
            <a:off x="2895480" y="4267080"/>
            <a:ext cx="1524240" cy="2438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45-8"/>
          <p:cNvPicPr/>
          <p:nvPr/>
        </p:nvPicPr>
        <p:blipFill>
          <a:blip r:embed="rId4"/>
          <a:stretch/>
        </p:blipFill>
        <p:spPr>
          <a:xfrm>
            <a:off x="3048120" y="1219320"/>
            <a:ext cx="1218960" cy="1904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45-9"/>
          <p:cNvPicPr/>
          <p:nvPr/>
        </p:nvPicPr>
        <p:blipFill>
          <a:blip r:embed="rId5"/>
          <a:stretch/>
        </p:blipFill>
        <p:spPr>
          <a:xfrm>
            <a:off x="6553080" y="1600200"/>
            <a:ext cx="2181240" cy="4572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45-17"/>
          <p:cNvPicPr/>
          <p:nvPr/>
        </p:nvPicPr>
        <p:blipFill>
          <a:blip r:embed="rId6"/>
          <a:stretch/>
        </p:blipFill>
        <p:spPr>
          <a:xfrm>
            <a:off x="4724280" y="4267080"/>
            <a:ext cx="1524240" cy="239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3124080" y="533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钩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48006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蛲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30481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鞭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4876920" y="3581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姜片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914400" y="762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  <a:ea typeface="黑体"/>
              </a:rPr>
              <a:t>蛔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308720" y="620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黑体"/>
              </a:rPr>
              <a:t>绦虫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5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179280" y="620640"/>
          <a:ext cx="8839440" cy="5740560"/>
        </p:xfrm>
        <a:graphic>
          <a:graphicData uri="http://schemas.openxmlformats.org/drawingml/2006/table">
            <a:tbl>
              <a:tblPr/>
              <a:tblGrid>
                <a:gridCol w="1219320"/>
                <a:gridCol w="1752480"/>
                <a:gridCol w="3048120"/>
                <a:gridCol w="281952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药物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主要抗虫谱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作用机制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99"/>
                          </a:solidFill>
                          <a:latin typeface="楷体_GB2312"/>
                          <a:ea typeface="楷体_GB2312"/>
                        </a:rPr>
                        <a:t>不良反应及监护事项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哌   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抗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ch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松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空腹服药，注意排虫情况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阿苯达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肠虫清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绦虫 囊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葡萄糖摄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监护事项同哌嗪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噻 嘧 啶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线虫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蛔 钩 蛲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去极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痉挛性麻痹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不能与哌嗪合用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恩波维铵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蛲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有氧呼吸；耗竭糖原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应整片吞服，不可咬碎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氯硝柳胺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各类绦虫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(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牛肉 猪肉等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)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抑制氧化磷酸化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→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TP↓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少  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将药充分咬碎后吞下，尽量少饮水</a:t>
                      </a:r>
                      <a:endParaRPr b="1" lang="en-US" sz="1800" spc="-1" strike="noStrike">
                        <a:solidFill>
                          <a:srgbClr val="ffffff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27" name="Text Box 39"/>
          <p:cNvSpPr/>
          <p:nvPr/>
        </p:nvSpPr>
        <p:spPr>
          <a:xfrm>
            <a:off x="1258920" y="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楷体_GB2312"/>
              </a:rPr>
              <a:t>常用抗肠蠕虫药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229" name="Picture 6" descr="6a6b7068gw1e7fneyrj3kj20e60am42l"/>
          <p:cNvPicPr/>
          <p:nvPr/>
        </p:nvPicPr>
        <p:blipFill>
          <a:blip r:embed="rId1"/>
          <a:stretch/>
        </p:blipFill>
        <p:spPr>
          <a:xfrm>
            <a:off x="1403280" y="1268280"/>
            <a:ext cx="5962680" cy="403236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8"/>
          <p:cNvSpPr/>
          <p:nvPr/>
        </p:nvSpPr>
        <p:spPr>
          <a:xfrm>
            <a:off x="3132000" y="5589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Forte"/>
                <a:ea typeface="Dotum"/>
              </a:rPr>
              <a:t>The end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宋体"/>
                <a:ea typeface="宋体"/>
              </a:rPr>
              <a:t>第一节抗疟药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823760" y="2184480"/>
            <a:ext cx="582444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寒战 → 高热 → 出汗退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426708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21337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99ff99"/>
          </a:solidFill>
          <a:ln w="32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1908000" y="3581280"/>
            <a:ext cx="4873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99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性疟      间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日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恶性疟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1042920" y="141300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一、疟疾的特点与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457200"/>
            <a:ext cx="9144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Times New Roman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疟原虫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生活史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与药物作用途径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pic>
        <p:nvPicPr>
          <p:cNvPr id="122" name="Picture 5" descr="45-16"/>
          <p:cNvPicPr/>
          <p:nvPr/>
        </p:nvPicPr>
        <p:blipFill>
          <a:blip r:embed="rId1"/>
          <a:stretch/>
        </p:blipFill>
        <p:spPr>
          <a:xfrm>
            <a:off x="1143000" y="228600"/>
            <a:ext cx="784872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4572000" y="49528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病因预防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4" name="Freeform 8"/>
          <p:cNvSpPr/>
          <p:nvPr/>
        </p:nvSpPr>
        <p:spPr>
          <a:xfrm>
            <a:off x="6178680" y="4532400"/>
            <a:ext cx="209520" cy="5364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523880" y="4952880"/>
            <a:ext cx="15242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症状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3043080" y="44416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1600200" y="91440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传播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8" name="Freeform 12"/>
          <p:cNvSpPr/>
          <p:nvPr/>
        </p:nvSpPr>
        <p:spPr>
          <a:xfrm rot="5728800">
            <a:off x="3297960" y="1045080"/>
            <a:ext cx="262080" cy="45720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4572000" y="1752480"/>
            <a:ext cx="15238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黑体"/>
              </a:rPr>
              <a:t>控制复发药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0" name="Freeform 14"/>
          <p:cNvSpPr/>
          <p:nvPr/>
        </p:nvSpPr>
        <p:spPr>
          <a:xfrm rot="19135200">
            <a:off x="6172200" y="1981080"/>
            <a:ext cx="209520" cy="536760"/>
          </a:xfrm>
          <a:prstGeom prst="pie">
            <a:avLst/>
          </a:prstGeom>
          <a:noFill/>
          <a:ln w="38160">
            <a:solidFill>
              <a:srgbClr val="99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1" name="AutoShape 16"/>
          <p:cNvSpPr/>
          <p:nvPr/>
        </p:nvSpPr>
        <p:spPr>
          <a:xfrm rot="5413800">
            <a:off x="540936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846760" y="5410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3" name="AutoShape 18"/>
          <p:cNvSpPr/>
          <p:nvPr/>
        </p:nvSpPr>
        <p:spPr>
          <a:xfrm rot="5413800">
            <a:off x="2056680" y="5409720"/>
            <a:ext cx="228600" cy="22860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3449880" y="54100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氯喹、奎宁、青蒿素等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5181480" y="1523880"/>
            <a:ext cx="304920" cy="15264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5642640" y="129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2362320" y="685800"/>
            <a:ext cx="304560" cy="152280"/>
          </a:xfrm>
          <a:prstGeom prst="pie">
            <a:avLst/>
          </a:prstGeom>
          <a:solidFill>
            <a:srgbClr val="993366"/>
          </a:solidFill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081240" y="457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66"/>
                </a:solidFill>
                <a:latin typeface="Times New Roman"/>
                <a:ea typeface="黑体"/>
              </a:rPr>
              <a:t>伯氨喹、乙胺嘧啶</a:t>
            </a:r>
            <a:endParaRPr b="1" lang="en-US" sz="20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0" name="Rectangle 6">
            <a:hlinkClick r:id="rId1" action="ppaction://hlinksldjump"/>
          </p:cNvPr>
          <p:cNvSpPr/>
          <p:nvPr/>
        </p:nvSpPr>
        <p:spPr>
          <a:xfrm>
            <a:off x="1219320" y="45720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预防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乙胺嘧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5640" y="981000"/>
            <a:ext cx="6705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抗疟药物及其分类</a:t>
            </a:r>
            <a:endParaRPr b="1" lang="en-US" sz="32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2" name="Rectangle 9">
            <a:hlinkClick r:id="rId2" action="ppaction://hlinksldjump"/>
          </p:cNvPr>
          <p:cNvSpPr/>
          <p:nvPr/>
        </p:nvSpPr>
        <p:spPr>
          <a:xfrm>
            <a:off x="1219320" y="1752480"/>
            <a:ext cx="71625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用于控制症状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——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氯喹、奎宁、青蒿素等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3" name="Rectangle 10">
            <a:hlinkClick r:id="rId3" action="ppaction://hlinksldjump"/>
          </p:cNvPr>
          <p:cNvSpPr/>
          <p:nvPr/>
        </p:nvSpPr>
        <p:spPr>
          <a:xfrm>
            <a:off x="1219320" y="3200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主要用于控制传播和防止复发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伯氨喹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68360" y="1341360"/>
            <a:ext cx="472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药理作用与临床用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95280" y="2060640"/>
            <a:ext cx="838188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疟作用   主要作用于红内期裂殖体，快、强、持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控制各型疟疾症状的首选药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肠外阿米巴病作用   对阿米巴痢疾无效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免疫抑制作用         治疗自身免疫性疾病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395280" y="450864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幼圆"/>
              </a:rPr>
              <a:t> 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幼圆"/>
              </a:rPr>
              <a:t>不良反应</a:t>
            </a:r>
            <a:endParaRPr b="1" lang="en-US" sz="28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395280" y="501336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99"/>
                </a:solidFill>
                <a:latin typeface="幼圆"/>
                <a:ea typeface="幼圆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力模糊，定期作眼科检查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数患者引起心律失常，应注意观察，及时抢救。</a:t>
            </a:r>
            <a:endParaRPr b="1" lang="en-US" sz="24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147920" y="36036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氯   喹</a:t>
            </a:r>
            <a:endParaRPr b="1" lang="en-US" sz="3600" spc="-1" strike="noStrike">
              <a:solidFill>
                <a:srgbClr val="ffffff"/>
              </a:solidFill>
              <a:latin typeface="宋体"/>
            </a:endParaRPr>
          </a:p>
        </p:txBody>
      </p:sp>
    </p:spTree>
  </p:cSld>
  <p:transition spd="med">
    <p:split dir="out" orient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奎   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对各种疟原虫红细胞内期滋养体均有杀灭作用，能控制症状，但疗效不及氯喹且毒性大，但极少产生耐药，且与氯喹之间无交叉耐药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的恶性疟，尤其是严重的脑型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ffffff"/>
              </a:solidFill>
              <a:latin typeface="宋体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青  蒿  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从植物黄花蒿中提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高效、速效、低毒的抗疟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主要用于耐氯喹虫株感染的疟疾及抢救脑型疟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缺点是复发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不良反应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02:43:12Z</dcterms:created>
  <dc:creator>libin</dc:creator>
  <dc:description/>
  <dc:language>en-US</dc:language>
  <cp:lastModifiedBy>sxm</cp:lastModifiedBy>
  <dcterms:modified xsi:type="dcterms:W3CDTF">2016-03-09T08:56:17Z</dcterms:modified>
  <cp:revision>91</cp:revision>
  <dc:subject/>
  <dc:title>PowerPoint 演示文稿</dc:title>
</cp:coreProperties>
</file>